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9B2-6ED2-4FB8-8C96-7CF2ECCE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EAE-1630-4BC0-8D75-3B4D8399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BACD6-19B0-419A-8B70-DD3CCE9E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EE6D6-A40B-4E21-AA3D-5499875A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F5DB6-923F-4F28-BE0C-8AD5C17B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AFBF8-606C-437B-B32E-CE1B3998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7607B-9893-4E72-88D4-EB5A77BE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06B9D-0556-46B4-A62B-C8F2EC93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F80AA-9B13-4D25-ABB1-88EE645E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12FA1-99A6-42F9-9BBD-009B3AF1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08278-739E-4DCA-8A18-2D3761AF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21BA8-F8DD-4452-BAC4-B2DB6B53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5F5-7139-4BFA-B4E1-A3A87609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3F5B9-7071-409D-A6D7-DD98E181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8D2E0-4731-4484-8EC9-4BD9A91F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6331F-B081-4811-B4F2-2F220D9B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E1B37-D919-4193-BB2C-CC66605D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115F4-5702-4514-8CA0-1B6BEACC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AD449-AF1C-467E-BCA6-E3DB780D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65251-9316-4076-A005-27FF352C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F83A2-E842-4E7B-BE0C-A625E179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1487C-74E4-484E-B78B-4170ABBA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BDC86-18B3-47F7-83CE-B8B94F06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E97-063A-44D8-AA5D-90C83E06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9366D-027B-4593-9622-6F50B5BC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A3F32-105A-4E55-AC4D-DCDCECB6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58B2F-F362-43FD-A8B0-E36A0945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35CED-B1D5-4ED0-B200-800995A7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CC432-5E84-474B-AAAB-45D6751F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40655-1BD2-4A48-B832-A11ECF80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305D7-4C08-4D59-AF36-ACC64A98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CF53D-FB9C-4273-B25E-711687D9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DC5BF-1A73-4B3E-8AEF-7769CBB8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E3D21-518C-48AE-A8AF-ACDFF337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F598-D8E7-4C56-95E0-728AF7DC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1C902-363B-413C-8433-0C83DA3C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5D8B5-11F4-42A7-AE9E-3E8BB659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27703-855E-47EC-B5FF-6BDE9DD6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B6F10-432B-4880-9CF1-1D7E7137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C80D1-F5B0-48F0-B01D-E0B32715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F3778-97A0-4AB1-8138-7D3F1B04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0AE60-AAFD-4A36-AF24-8062068F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A98B0-A521-4CBC-943B-5CFEEE70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70792-D447-441A-8279-2BA69B59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36148-7526-4A73-8444-1FB888F0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D3B7-2138-42F4-AEF9-741CFE71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8A25E-0F20-478E-9174-A27E95B2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09FAB-1DCB-4B56-8DEF-A0544BC7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ADAD1-AE76-4F7D-9A43-70A2BDDC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5F2AB-451B-4121-AF05-965A6359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FB3B6-F541-4CD5-AE66-8B3D095D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5D311-3B5F-4763-B161-4D7F72A1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0A7B7-1325-4A37-9AF4-6D9430BF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F665F-3D28-4ED2-AC9B-EEDC4B35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DAF90-5F6D-44E0-8217-C8D38456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4D469-4F8A-46E4-8185-40DADB2A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532F-4F87-4730-925E-3771C316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07AFF-0C03-4041-A87E-BDDE6A23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701A14-ED55-4257-81D1-1E53A36E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37D99-76E7-46B9-A7B0-EFA16F55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21103-7039-42E6-81FD-7E293B6F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98A22-663E-4DA3-B41E-87284D29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8E656-7099-4C1E-AFCC-3A6E1539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FFA14-43E5-4ABB-939E-FB676D51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8767CB-B6C6-46D9-9F7D-05E75E9F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5E7B5-85AB-42AA-989C-CA8FF268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603E43-F122-4E7B-90C1-CAEEA9C8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1CBA-6B61-493E-8A23-45549302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E4D748-B0AC-431B-BCFC-CE2F30EB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AFE02D-D547-4C8B-95F1-7920CBBE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549C1-FE61-42C6-8E49-D080C9D1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7758B-5F07-4D4B-B35B-A1A85BBD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E2329-AD10-4958-9D18-0838A439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DE722-4560-4AF5-9BD9-096BAADC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20D905-9F37-4B2E-87E7-45336061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9C48F3-3E3D-4475-9D53-BA5B41A6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11723D-AC42-4EAB-AC45-D5B6ADC5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B57097-075A-411B-B16F-FA23F15C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3E46-8DF1-496B-80ED-46B6751D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6F20B-D6A8-4AA8-8B88-5AFC426E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59C7D2-8476-4846-88C1-A0C9DEA7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473504-0D7C-4F99-9323-3629AC8D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EB4DD3-C9F1-462D-9954-B47B7F03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CC705A-7833-4A5D-A71F-0229298E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9F3DCB-035D-4709-B29F-7F935F98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E4DBCD-F1DC-413A-90F2-DF8574C3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E6168F-C9F8-4AFA-BC49-C14670A3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D7111-216E-4039-8B66-2C4E6756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2DACAE-49FF-486C-9062-EB0BEC06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6914-E186-48F8-A7FF-5A113D79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BD9D6D-A286-48EB-92C5-A99352A1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9BB3B4-FC5C-44F1-B07C-6E6AD385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31F20E-07E7-4AFB-889A-5B4722CA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88063B-3851-4E8E-92BD-EC64B303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F7BBE7-F349-4756-A547-5BDA9727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858AD8-752E-481D-97E6-CC116FA7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39401F-A225-41F9-861C-B702E631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72B62C-FBE9-44D4-B2D9-EDA97553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844372-00B6-45C6-8FD1-E4CF9374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97D0A6-69DC-4071-B99E-383E5D50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2726-F41E-4411-8544-8671776F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7303B2-1CF0-467A-AB9B-7845091F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F5E2F3-0A6E-45C9-91A0-2A06B19A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7712B7-2437-42BD-B8BE-512899C5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39C2BE-3F79-46C1-B804-010FA9CF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2DD6EA-7F0A-4AF4-A08B-B4740DCA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ACA21E-0419-4EA5-AA02-422746C8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875B97-F1A9-433E-AE6A-938C1659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86D826-E959-451F-BC30-60BC3DE6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0EB35B-F67A-4996-A60E-337C7693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70EA81-8EEF-479F-97AD-0AB51220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612-C972-4189-A937-7BE03C84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5D9C-2C55-491A-B440-3258DF35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7AB4A5-65C4-4E22-8338-87AB588A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B2AF5D-35E6-43D9-8E2A-EB9714E0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D8787B-1FBB-4B8D-B717-39B420A0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4C7261-1703-4E68-8D71-B7E38C13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35665A-8AA9-4634-BD40-61B5CF62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09075D-668C-4D89-B54C-D3D94319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58BFE5-A9B1-4C52-A461-05E60C5F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2BDBA7-33A1-4974-851F-21C55104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E270A6-53EF-4CFC-8F0B-EA5281E6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DB1E89-CE5A-4B79-9219-F59DC148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F8E9-6025-4683-963D-F095EB45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03D449-1A86-4F37-BC07-F4BDD536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F36B00-117F-4949-AB2C-058A3B4A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C0FE5E-EBFC-4B80-ADCB-B4279875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4F5104-D18F-4099-84E5-94E2D7C0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1BDC4D-E552-48D8-AD80-2D596F66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C2BAA2-E63D-406E-83B5-2E1BA8F2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4148ED-B1B3-4483-9C7E-89E505D2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0DBEA8-6AC2-46F4-8BE6-2D1E3D18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6702E4-D604-4E9E-91B9-4EB3D348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C81B2B-FF40-4ED6-92BF-599726A7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BAD8-7D51-4B12-9D32-52E7F644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7D2F60-6229-4449-9E70-4182544D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7B0523-E13D-459B-9043-85E2F525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F54E98-6353-411D-9F08-709753BD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E76BE2-FE04-4D48-9085-15CA6A9A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3A1BF3-F075-4DC7-B1B1-922152D2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3078D4-9877-4979-8694-6893ADA2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92A8FF-B527-480B-B6FD-08648A3D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11DD71-6888-4384-9843-1B8DCDD9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1A2B10-00A4-4349-BB7A-3793FEE2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45BFC3-4A7A-4E4E-A9CD-28AE11DE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DA89-86B3-49FA-BB50-C58F717C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795253-E4ED-4D23-A162-33EE0267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D92D13-D789-4013-89C7-13000FFC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2DAF3C-7F00-4D6C-9E4F-B0B3C10C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54D2CB-27DD-404B-9A59-6592A82E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405E59-C977-4170-9D03-298BE6D9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6E828F-C522-4D8D-8D9C-532068AE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BAB609-3D8E-40F5-9637-2791FF96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B0A835-6C98-4AFA-B2E3-6EB8CD41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ED3854-DBA6-44A5-A2DB-BD1FA154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F40530-9651-4EFB-B41E-FE67A26D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17AE-119D-46D6-A9E3-95262C54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67FEDC-A8BF-47F0-9FBF-8D8D884E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EB6EEF-F7DA-49EB-BF1D-7F59AE23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0B4C82-211F-4C61-998F-A3B9F7FB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248DF3-AEA0-49A9-8BCF-F772A620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11BB8E-2A23-471B-A52E-B7E5A1F6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924BCC-FDB2-4C83-AF03-38C1C2BC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7E6FFA-548F-459B-AA04-9E6CD7C9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9B9672-770B-40E3-BFA8-C362DE77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9E2811-828E-429F-A2A5-0C0AE29B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C57A61-9B6C-4FDE-9024-236AD9FB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BC205-DCD6-4312-9E43-9DF448E7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F72ABE-530A-4E1A-B316-46CDBBAE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F5E11A-42F8-458E-8354-0C7DA72A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86972A-F6FD-43EF-B5E4-D6282F10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82D0C3-C424-4437-B654-0C8A2A9C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4A9733-B90D-4C19-8F4A-1D97D38D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EFD96A-5E16-4FAA-8CAB-86C54E56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6747DC-5A8F-4F4F-B5FD-BA145965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7C925E-6681-47B4-AB92-49076209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9D1F29-3E38-4A98-B856-1293EC29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E9E452-227A-49CC-98D7-CF1F608C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3CC9C-D03E-4AC6-B7A5-8DDD2152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1C6A13-85B3-4F6D-BB01-2EFEFE82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17119F-5B3D-4F47-8D16-A51C7A2A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F98236-AB4E-49F4-B94E-D740EF55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E85A91-9CD4-4E25-9E02-5E9EF655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5B5703-16D5-48C5-BC17-49BBE45C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2CCDC8-EBB4-4EC9-83B0-CEFAC976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4AF6B4-16B1-4563-A993-5E5395AF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41976B-AE88-4DE1-8466-5E16518A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F3F134-03D8-44B9-B750-E383BAE8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90F2A6-F2EB-4F4C-A4CA-6783DDEF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1580A-2E93-4A51-A336-D20D2BD9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4E9DFF-332D-44D0-8A04-923FCD19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F926CB-65D2-4193-8EB6-0A70002D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FD9BE6-F3F8-4789-9064-84668EA6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188D40-7E29-49D5-B4FF-6BEE3F6F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337533-AD3D-44E6-9B4C-94F10836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6A6833-15A7-4D4E-A51B-2F6A2037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8513C7-4BD3-43F6-B258-60AEE4EA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5F38A-CC57-4129-AFFB-E7541976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5D90C-58F8-47B0-9136-07C12068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361-A3F4-4500-B812-2256B2E7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91DBB-533D-4FBF-ACE2-135B47C0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37468-A045-4382-A380-6816A806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7F87-E332-493C-B0F1-31FA7858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8CB8C-F727-4860-9AE0-A01D1057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F9E26-FCA7-43D5-B3C8-EF8B242E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340AD-4B7C-4BDA-A947-05C0F3FD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E9640-E959-4FAE-95B5-66892342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ACE38-0080-4453-B179-E5246F09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19F08-8D27-43AA-BE7F-67A9E68F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ED2A3-AC22-4F94-AFAD-75D7F17A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60B-71C9-4681-A2AD-5D67C710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54BCB-6862-4624-B946-B2ADF821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C38CE-8825-4E3E-A039-8BEB3B9D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5E333-4DBF-4143-9DD1-9CA2025C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72349-E752-43A1-829F-12D29DD3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DA94D-2323-48F3-9F82-00F2C1BF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66724-2E6E-4E3C-AAC1-7CA42057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9C3B9-F4A6-4E51-A289-886F073F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C9B3E-4249-4417-B6EC-5A018993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3AE1C-DCDE-492C-964D-82F98906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CBA2F-B199-49BF-89A4-851B8E26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D16-30C6-4E05-A214-4208E8CB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F95BD-4C35-45A7-B523-4F0D0644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F0282-11ED-444C-A2DF-16241A8E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BC1F7-3E75-4251-82F1-288FC2AF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C99EE-B29F-48A4-B14D-6F52F1A0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B2756-1A05-483E-862D-CC8D4BB2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14559-42A2-439F-B5E1-6D00A631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5B0D2-316C-408F-9A6A-C3BEC26E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E2596-06B7-4133-9BD8-9E7C6E38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28551-6AFA-4918-B426-64D56523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F476C-A35A-4259-BA3C-1873F1AA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D93-2F39-4ABC-9DAE-492A19D6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2792C-5EBC-49D7-85B8-8144BD22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4315B-84C9-453A-B2E6-AC99ABEE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FCC9C-A6E2-4DCD-B2F0-D1E4880B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B92DE-ADB7-43FB-9553-83A18B96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E9688-42C1-411B-B6A5-2D958865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8391C-4D00-4FA8-A33D-20B68236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FEA57-4945-4FAD-9094-BA754B2F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D1C46-E353-43F2-B7DA-057BA9CD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F4C58-54F2-4D1B-B5EB-69BD08AD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56E64-B0BC-415A-8587-0D337CC6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36ED-4E2B-48B9-8318-F9D98988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9B843-1D00-4A7E-B158-32F09C39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2D44C-6F3B-4055-8064-9CE8A1F4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179D4-E486-4520-BF56-FF0097FD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1425B-FC7D-40B4-B339-1863338C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6A40B-4116-4DA1-9BE3-6C41BD31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56A2D-A5C2-4F5D-8166-937C1535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FC4A5-EA4C-4175-AB1E-1B12E8EF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7D1C6-63CE-4EA1-BB1F-82A4786C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6B765-CBA3-4883-A5BA-7782488B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01551-0117-492D-9978-0B5062E6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D2B4-6CA9-47AD-B8BE-1A3CC7B5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006C4-D975-4332-93FF-04D2CD38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C99F6-17D5-4F00-A39A-257FCBD8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04B77-E399-46A7-8125-A246FF3F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9C410-D6E5-4AD8-9D6E-E788FAD3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D9EC5-74EA-4590-B99E-B63C1345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061A4-2088-459F-BAA4-21739056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37C98-D907-4DF3-9CF7-8B39A62E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63615-B846-4B27-AC77-9F4FD6F8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A35B2-FD76-4EAD-BE5C-0E1444DB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40165-BF0E-4A79-B7E0-D546B4D8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062-FEF5-4028-AD22-10499DF4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ED403-1A1B-42CA-AC7B-24C6DB68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6781B-097F-4E9C-9026-B8848A0E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A3BDB-7CA8-4029-98DD-8225B2F8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0F1A3-B468-4F60-82B4-3158144D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FF9B2-C577-4B73-A671-9D55C9D4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BE332-7045-4B9F-8DD4-A8F4135D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F1C6F-9E42-4249-A755-1B8E93B6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51D32-EE0F-4481-804D-5084FA1D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6C4F2-EE35-4C3E-8530-A340012B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BC5B6-337A-4FD0-9298-BD04A852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0808-EEA2-433B-BF69-D62ECF8046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EC5E-DE3F-4F56-9248-2C1E6E4EC4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7C76-B765-4C96-AA72-6F0E756502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7159-86E1-4960-BF11-D91BA2C9AD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680D-6629-44EC-81F5-AAB308C329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1AD1-AFFD-4847-AE32-F547C27584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CEE6-D59E-44A8-9AEF-AF8DB8DB61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EEAA-6EDA-4960-8896-A40E8E535C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BB01-CFE4-4033-86D9-234C18B242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719C-BE73-4D77-8E67-117E49674B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BB7B-DCB2-4AB8-B8FD-C10D647A20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5F8F-C9DA-481C-AC5C-95C1068EFE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C9B6-03C2-4A0D-AAF1-79D28492B9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3A53-353D-49C5-85C8-CA8CA03233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B087-F4C8-4FB6-B90D-41B7A2F6F1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3BA0-3BC0-45C1-BD51-83018CB761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0194-C917-4F7D-A369-989A755A09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5169-B941-4D0D-A1C1-6B50C1C471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4459-45BB-4216-B266-E8B06AE666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931B-5974-47F6-886C-FE06853E2C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F9FA-8286-4168-85FC-4E3478FD00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2750-75F9-4F13-8867-1E9CA78FCD1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8771-88D0-4B5E-830C-E835B230F0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AB63-0408-429B-A124-79DEB2D07B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A2E9-71F3-469B-BC3A-BDAB094A8D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1F2C-163E-4C53-A571-D497D89BA3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2A6D-CE07-4EEF-B932-28A5A75ECB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AAF7-6EE9-41A8-9113-6ECD61E80D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E07B-DBD9-42BE-BC0E-90AF5E55A4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6951-3E1A-437C-80C3-436195F30D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97BB-A5C1-4690-8DA3-230232172F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FAC3-94AA-4CEE-BDDB-DE17DD864B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AE22-2A6A-4CD0-AD35-6CA033C004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9821-4CD6-4284-AE10-33560A157B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5211-D323-4C78-9CA5-172769C0A0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1B1C-52BF-4147-BD4D-C0C8F33E17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E65B-DE7E-4F8C-9215-5943FE74D8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CB8A-A054-4AFE-B52C-7967A2A4D7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2394-1F84-48A2-B4B8-4CBEE4100F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ABFE-5085-4CA4-899D-5CDB0EB7CA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90B7-5771-46C5-A4F0-A5A6C06396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1D1A-EB93-462E-9D2C-98EED5B899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28520" y="3024360"/>
            <a:ext cx="888696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533520" y="155520"/>
            <a:ext cx="8340480" cy="6548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6127920" y="557532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466560" y="2614680"/>
            <a:ext cx="8210880" cy="16286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5867280" y="2781360"/>
            <a:ext cx="100980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1403280" y="3587760"/>
            <a:ext cx="1009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33280" y="933480"/>
            <a:ext cx="8677440" cy="49910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258920" y="429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6156360" y="509904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1" descr=""/>
          <p:cNvPicPr/>
          <p:nvPr/>
        </p:nvPicPr>
        <p:blipFill>
          <a:blip r:embed="rId1"/>
          <a:stretch/>
        </p:blipFill>
        <p:spPr>
          <a:xfrm>
            <a:off x="423720" y="1343160"/>
            <a:ext cx="8296560" cy="41716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2"/>
          <a:stretch/>
        </p:blipFill>
        <p:spPr>
          <a:xfrm>
            <a:off x="3780000" y="39337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3"/>
          <a:stretch/>
        </p:blipFill>
        <p:spPr>
          <a:xfrm>
            <a:off x="4067280" y="47242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399960" y="1138320"/>
            <a:ext cx="8344080" cy="45813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637236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2268360" y="5027760"/>
            <a:ext cx="1511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409680" y="1019160"/>
            <a:ext cx="8324640" cy="48196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6372360" y="3573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4859280" y="430704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1619280" y="50846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228600" y="1271520"/>
            <a:ext cx="8686800" cy="43149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6084720" y="194472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4140360" y="3184560"/>
            <a:ext cx="86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3059280" y="4033800"/>
            <a:ext cx="86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6804000" y="4379760"/>
            <a:ext cx="86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81000" y="990720"/>
            <a:ext cx="8982000" cy="54576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3492360" y="394812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7596360" y="3903840"/>
            <a:ext cx="71892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3564000" y="525780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7524720" y="5272200"/>
            <a:ext cx="719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447840" y="2228760"/>
            <a:ext cx="8248320" cy="2400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4427640" y="275112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5651640" y="4048200"/>
            <a:ext cx="86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119160" y="128520"/>
            <a:ext cx="8905680" cy="66009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7451640" y="19303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4067280" y="2781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752472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5"/>
          <a:stretch/>
        </p:blipFill>
        <p:spPr>
          <a:xfrm>
            <a:off x="399564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6"/>
          <a:stretch/>
        </p:blipFill>
        <p:spPr>
          <a:xfrm>
            <a:off x="6746760" y="51134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7"/>
          <a:stretch/>
        </p:blipFill>
        <p:spPr>
          <a:xfrm>
            <a:off x="7596360" y="508464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8"/>
          <a:stretch/>
        </p:blipFill>
        <p:spPr>
          <a:xfrm>
            <a:off x="7567560" y="610884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09:3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